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89F5-9A65-4AD1-9516-0044DEFE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0D2-0193-4BC5-87B3-992519D7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C0E5-304F-4E9B-933C-91678DC4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197D-55DE-4697-8DD0-6E4B115C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3302-3C78-4596-B63C-8720424B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369E-24C9-4F07-8477-5156B2C6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307F-FF24-4E3C-A757-776CF631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66B5-0507-48EE-9014-0F3E6E88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280E-A1D6-4EDB-AFD3-03B69B92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3C20-F06B-4CD9-8605-B410C694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3BE7-F0F7-4BA7-8F48-F07F3DA1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278-4890-41AC-8CCC-2B5F78C4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0894-1B44-49AF-93FA-9A960B67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5D84-8AD2-42BE-8B06-2010D656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BDAB-2219-40EA-B584-619B486F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F1A6-B7E0-4E41-9E4B-154958B1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3480-C191-49F0-A194-2C27CECD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629-C05C-4B0F-BE9D-A1C92C8B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FCE-9418-41D9-B6FC-4496D2DE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FB8-2C10-4E00-9FBF-84A7CB1A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62E-3328-49CD-99C4-DCC6595F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F8CA-8B2D-4E58-9BF0-DCCB6359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1AB-6FC5-412E-9BEF-E2E0C60E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F28-EE19-4292-98AC-2F79FCA9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BD8E-D4C7-4F9B-A890-A6A39AB520D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C3C6-D102-42DB-A0CE-6D1E1993AB4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hotelplazaescribano.com/escribano/imagenes/juanramon5.jpg&amp;imgrefurl=http://www.hotelplazaescribano.com/escribano/index.html&amp;usg=__h1Mg6xUjCfFkPtWVXUTVwYDHkLU=&amp;h=450&amp;w=318&amp;sz=82&amp;hl=es&amp;start=15&amp;tbnid=UCR0GC05ycHBxM:&amp;tbnh=127&amp;tbnw=90&amp;prev=/images%3Fq%3Djuan%2Bram%25C3%25B3n%2Bjim%25C3%25A9nez%26gbv%3D2%26hl%3Des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lengylitstj4.files.wordpress.com/2008/04/juan_ramon.gif&amp;imgrefurl=http://lengylitstj4.wordpress.com/2008/04/05/juan-ramon-jimenez/&amp;usg=__u924Qp2lxNOvtv2ImdQOLeOrzTs=&amp;h=369&amp;w=296&amp;sz=65&amp;hl=es&amp;start=5&amp;um=1&amp;tbnid=Crg_R5YPVTz3zM:&amp;tbnh=122&amp;tbnw=98&amp;prev=/images%3Fq%3DJuan%2BRam%25C3%25B3n%2BJim%25C3%25A9nez%26um%3D1%26hl%3Des%26rlz%3D1T4ADBS_esES236ES239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4.bp.blogspot.com/_cuQweEQbRF8/R_OYdBfu3EI/AAAAAAAABTg/TFfCX94zUYs/s400/caba&#241;a%2Bmonta&#241;a%2By%2Blluvia.bmp&amp;imgrefurl=http://cuentosprescindibles.blogspot.com/&amp;usg=__7zNB_Mvhofq7kPiqyGCgtgUHzok=&amp;h=300&amp;w=400&amp;sz=21&amp;hl=es&amp;start=63&amp;um=1&amp;tbnid=otVaobvQMttwfM:&amp;tbnh=93&amp;tbnw=124&amp;prev=/images%3Fq%3Dpaisaje%2Bvelado%2Bpor%2Bla%2Blluvia%26ndsp%3D18%26hl%3Des%26rlz%3D1T4ADSA_esES343ES345%26sa%3DN%26start%3D54%26um%3D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es/imgres?imgurl=http://img407.imageshack.us/img407/6430/zpvh8.jpg&amp;imgrefurl=http://www.skyscrapercity.com/showthread.php%3Ft%3D476317&amp;usg=__JtBJJ1iYVSeZ1H2xlBdZQal_SRU=&amp;h=480&amp;w=640&amp;sz=116&amp;hl=es&amp;start=55&amp;um=1&amp;tbnid=n1lR9XK0MQCMGM:&amp;tbnh=103&amp;tbnw=137&amp;prev=/images%3Fq%3Dvacas%2Ben%2Bel%2Bvalle%2Blluvioso%26ndsp%3D18%26hl%3Des%26rlz%3D1T4ADSA_esES343ES345%26sa%3DN%26start%3D54%26um%3D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es/imgres?imgurl=http://www.chessbase.com/espanola/images/reportaje/lluvia.jpg&amp;imgrefurl=http://www.chessbase.com/espanola/newsdetail2.asp%3Fid%3D2528&amp;usg=__NZrjSMV_fDcTd27oexh_aJJkfqs=&amp;h=269&amp;w=406&amp;sz=11&amp;hl=es&amp;start=49&amp;um=1&amp;tbnid=n8FmlHzMO_m_YM:&amp;tbnh=82&amp;tbnw=124&amp;prev=/images%3Fq%3Dentre%2Bel%2Bvelo%2Bde%2Bla%2Blluvia%26ndsp%3D18%26hl%3Des%26rlz%3D1T4ADSA_esES343ES345%26sa%3DN%26start%3D36%26um%3D1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348000" y="2492280"/>
            <a:ext cx="2182680" cy="2925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708360" y="566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81-19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200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19280" y="404280"/>
            <a:ext cx="554508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33"/>
                </a:solidFill>
                <a:latin typeface="Arial"/>
              </a:rPr>
              <a:t>Platero y yo</a:t>
            </a: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 su obra más popula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882880" cy="4321080"/>
          </a:xfrm>
          <a:prstGeom prst="rect">
            <a:avLst/>
          </a:prstGeom>
          <a:ln w="9360">
            <a:solidFill>
              <a:srgbClr val="006633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4140360" y="1844640"/>
            <a:ext cx="453528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una obra que tiene como protagonista a Platero, un borriquillo que pasa sus días en Moguer junto a su amo, el poeta Juan Ramón Jimé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oeta pasea con Platero por las calles y campos de Moguer y esos paseos le ayudan al poeta a conocer mejor la belleza de las cosas pequeñas de cada día: las flores, los pájaros, los niños, los sonidos del camp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obra no tiene argumento: son una serie de estampas de la vida de los dos protagonistas en Moguer escritas con un lenguaje bastante modern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180800" cy="1152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9640" y="5084640"/>
            <a:ext cx="2232000" cy="824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Si quieres escuchar un capitulillo de la obra pincha aqu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d6fe"/>
            </a:gs>
            <a:gs pos="100000">
              <a:srgbClr val="fefe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475920"/>
            <a:ext cx="403884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Más se fue desnudando,</a:t>
            </a:r>
            <a:br>
              <a:rPr sz="2000"/>
            </a:b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y yo le sonreía</a:t>
            </a:r>
            <a:br>
              <a:rPr sz="2000"/>
            </a:b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Se quedó con la túnica</a:t>
            </a:r>
            <a:br>
              <a:rPr sz="2000"/>
            </a:b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de su inocencia antigua</a:t>
            </a:r>
            <a:br>
              <a:rPr sz="2000"/>
            </a:b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Creí de nuevo en e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ETAPA INTELECTUAL O POESÍA P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(1916-193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Influjo de la literatura ingl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</a:rPr>
              <a:t>Uso de octosílabos, asonancias, poemas breves, verso libre, poemas en pros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ff"/>
                </a:solidFill>
                <a:latin typeface="Arial"/>
              </a:rPr>
              <a:t>Concentración conceptu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ff"/>
                </a:solidFill>
                <a:latin typeface="Arial"/>
              </a:rPr>
              <a:t>Supresión de la adjetivación y del colori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66ff"/>
                </a:solidFill>
                <a:latin typeface="Arial"/>
              </a:rPr>
              <a:t>Temas: mar  (vida, soledad, gozo, eterno presente, unidad cósmica, belleza), ansia de trascend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Obras</a:t>
            </a:r>
            <a:r>
              <a:rPr b="0" lang="en-US" sz="1700" spc="-1" strike="noStrike">
                <a:solidFill>
                  <a:srgbClr val="3366ff"/>
                </a:solidFill>
                <a:latin typeface="Arial"/>
              </a:rPr>
              <a:t>: </a:t>
            </a:r>
            <a:r>
              <a:rPr b="0" i="1" lang="en-US" sz="1600" spc="-1" strike="noStrike">
                <a:solidFill>
                  <a:srgbClr val="3366ff"/>
                </a:solidFill>
                <a:latin typeface="Arial"/>
              </a:rPr>
              <a:t>Diario de un poeta recién casado, Eternidades, Piedra y cielo, Poesía, Belleza, La estación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3635280" cy="2941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612720" y="-674640"/>
            <a:ext cx="10199520" cy="9504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86160" y="1128240"/>
            <a:ext cx="390816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¡Intelijencia, dame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nombre exacto de las cosas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.. Que mi palabra sea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cosa misma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reada por mi alma nuevamente.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Que por mí vayan todos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os que no las conocen, a las cosas;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que por mí vayan todos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os que ya las olvidan, a las cos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que por mi vayan t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os mismos que las aman, a las co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¡Intelijencia, dame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l nombre exacto, y tuyo</a:t>
            </a: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 suyo, y mío, de las cosas!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Eternidades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00"/>
                </a:solidFill>
                <a:latin typeface="Arial"/>
              </a:rPr>
              <a:t>POESÍA SUFICIENTE</a:t>
            </a:r>
            <a:br>
              <a:rPr sz="3500"/>
            </a:br>
            <a:r>
              <a:rPr b="1" lang="en-US" sz="35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990099"/>
                </a:solidFill>
                <a:latin typeface="Arial"/>
              </a:rPr>
              <a:t>(Desde 1936)</a:t>
            </a:r>
            <a:br>
              <a:rPr sz="3500"/>
            </a:b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188748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468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Y se quitó la túnica</a:t>
            </a:r>
            <a:br>
              <a:rPr sz="2400"/>
            </a:b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y apareció desnuda toda.</a:t>
            </a:r>
            <a:br>
              <a:rPr sz="2400"/>
            </a:b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¡Oh, pasión de mi vida, poesía</a:t>
            </a:r>
            <a:br>
              <a:rPr sz="2400"/>
            </a:b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desnuda, mía para siemp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05520" y="1773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Verso libre, romance, can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Lenguaje profundo y difí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Temas: comunicación con la naturaleza, sed de eternidad; identificación de Dios con la Naturaleza, con la Belleza o con la Conciencia cre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cc00"/>
                </a:solidFill>
                <a:latin typeface="Arial"/>
              </a:rPr>
              <a:t>Obras</a:t>
            </a: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: </a:t>
            </a:r>
            <a:r>
              <a:rPr b="0" i="1" lang="en-US" sz="2100" spc="-1" strike="noStrike">
                <a:solidFill>
                  <a:srgbClr val="cccc00"/>
                </a:solidFill>
                <a:latin typeface="Arial"/>
              </a:rPr>
              <a:t>En el otro costado, Dios deseado y desea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4535280" cy="3232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68360" y="333360"/>
            <a:ext cx="374328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OTOÑ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stoy completo de naturalez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 plena tarde de áurea madurez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lto viento en lo verde traspas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co fruto recóndito, conte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 grande elemental en mí (la tierr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l fuego, el agua, el aire) el infini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6720" y="155736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105520" y="1699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horreo luz. Doro el lugar oscuro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rasmino olor: la sombra huele a dios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emano son: lo amplio es honda música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filtro sabor: la mole bebe mi alma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eleito el tacto de la soled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Soy tesoro supremo, desasido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on densa redondez de limpio iris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el seno de la acción. Y lo soy tod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Lo todo que es el colmo de la nada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el todo que se basta y es servi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de lo que todavía es ambició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La estación tot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Nació en Moguer (Huelv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u vida estuvo marcada por su personalidad fuertemente depresiv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u esposa, Zenobia Camprubí, con la que se casó en Nueva York en 1916, fue una ayuda incondicional en su trabajo y en su vida perso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n 1951 ambos se instalan definitivamente en Puerto Rico, gracias a la generosa acogida de su universid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Tuvo una entrega total a la </a:t>
            </a: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Poesía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por cuyo cultivo recibió el Premio Nóbel en 195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urió en 195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857160" cy="1209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05520" y="2781360"/>
            <a:ext cx="4038480" cy="3235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781440" cy="5210280"/>
          </a:xfrm>
          <a:prstGeom prst="rect">
            <a:avLst/>
          </a:prstGeom>
          <a:ln w="9360">
            <a:solidFill>
              <a:srgbClr val="9966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635280" y="577440"/>
            <a:ext cx="6156360" cy="57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empre le preocupó el tema de la muert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 VIAJE DEFIN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 yo me iré. Y se quedarán los pájaros cantando; 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 se quedará mi huerto con su verde árbol, 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 con su pozo blanco. 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das las tardes el cielo será azul y plácido; 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 tocarán, como esta tarde están tocando, 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as campanas del campanario. 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 morirán aquellos que me amaron; 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 el pueblo se hará nuevo cada año; 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 en el rincón de aquel mi huerto florido y encalado, 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i espíritu errará, nostáljico. 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 yo me iré; y estaré solo, sin hogar, sin árbol 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erde, sin pozo blanco, 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in cielo azul y plácido... 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 se quedarán los pájaros cantando. 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ertenece, en realidad, a la 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Generación del 14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Novecentismo,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una generación de intelectuales que defiende la literatura deshumanizada y el “arte puro”, cuya única finalidad es proporcionar placer estético, desvinculado de preocupaciones religiosas, políticas o personal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Juan Ramón ha pasado a la posteridad sobre todo por su concepto de  “poesía pura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presenta un nexo de unión entre el Modernismo, en el que inicia su quehacer poético,  y la Generación del 27, pues muchos de los poetas de dicha generación lo consideran un precurso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32000" y="1484280"/>
            <a:ext cx="3816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600" spc="-1" strike="noStrike">
                <a:solidFill>
                  <a:srgbClr val="00cc00"/>
                </a:solidFill>
                <a:latin typeface="Arial"/>
              </a:rPr>
              <a:t>Vino, primero, pura,</a:t>
            </a:r>
            <a:br>
              <a:rPr sz="1600"/>
            </a:br>
            <a:r>
              <a:rPr b="0" i="1" lang="es-ES" sz="1600" spc="-1" strike="noStrike">
                <a:solidFill>
                  <a:srgbClr val="00cc00"/>
                </a:solidFill>
                <a:latin typeface="Arial"/>
              </a:rPr>
              <a:t>vestida de inocencia;</a:t>
            </a:r>
            <a:br>
              <a:rPr sz="1600"/>
            </a:br>
            <a:r>
              <a:rPr b="0" i="1" lang="es-ES" sz="1600" spc="-1" strike="noStrike">
                <a:solidFill>
                  <a:srgbClr val="00cc00"/>
                </a:solidFill>
                <a:latin typeface="Arial"/>
              </a:rPr>
              <a:t>Y la amé como un niño.</a:t>
            </a:r>
            <a:br>
              <a:rPr sz="1600"/>
            </a:br>
            <a:r>
              <a:rPr b="0" i="1" lang="es-ES" sz="1600" spc="-1" strike="noStrike">
                <a:solidFill>
                  <a:srgbClr val="cc0066"/>
                </a:solidFill>
                <a:latin typeface="Arial"/>
              </a:rPr>
              <a:t>Luego se fue vistiendo</a:t>
            </a:r>
            <a:br>
              <a:rPr sz="1600"/>
            </a:br>
            <a:r>
              <a:rPr b="0" i="1" lang="es-ES" sz="1600" spc="-1" strike="noStrike">
                <a:solidFill>
                  <a:srgbClr val="cc0066"/>
                </a:solidFill>
                <a:latin typeface="Arial"/>
              </a:rPr>
              <a:t>de no sé qué ropajes;</a:t>
            </a:r>
            <a:br>
              <a:rPr sz="1600"/>
            </a:br>
            <a:r>
              <a:rPr b="0" i="1" lang="es-ES" sz="1600" spc="-1" strike="noStrike">
                <a:solidFill>
                  <a:srgbClr val="cc0066"/>
                </a:solidFill>
                <a:latin typeface="Arial"/>
              </a:rPr>
              <a:t>y la fui odiando sin saberlo.</a:t>
            </a:r>
            <a:br>
              <a:rPr sz="1600"/>
            </a:br>
            <a:r>
              <a:rPr b="0" i="1" lang="es-ES" sz="1600" spc="-1" strike="noStrike">
                <a:solidFill>
                  <a:srgbClr val="cc0066"/>
                </a:solidFill>
                <a:latin typeface="Arial"/>
              </a:rPr>
              <a:t>Llegó a ser una reina,</a:t>
            </a:r>
            <a:br>
              <a:rPr sz="1600"/>
            </a:br>
            <a:r>
              <a:rPr b="0" i="1" lang="es-ES" sz="1600" spc="-1" strike="noStrike">
                <a:solidFill>
                  <a:srgbClr val="cc0066"/>
                </a:solidFill>
                <a:latin typeface="Arial"/>
              </a:rPr>
              <a:t>fastuosa de tesoros…</a:t>
            </a:r>
            <a:br>
              <a:rPr sz="1600"/>
            </a:br>
            <a:r>
              <a:rPr b="0" i="1" lang="es-ES" sz="1600" spc="-1" strike="noStrike">
                <a:solidFill>
                  <a:srgbClr val="cc0066"/>
                </a:solidFill>
                <a:latin typeface="Arial"/>
              </a:rPr>
              <a:t>¡Qué iracundia de yel y sin sentid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es-ES" sz="1600" spc="-1" strike="noStrike">
                <a:solidFill>
                  <a:srgbClr val="006600"/>
                </a:solidFill>
                <a:latin typeface="Arial"/>
              </a:rPr>
              <a:t>…</a:t>
            </a:r>
            <a:r>
              <a:rPr b="0" i="1" lang="es-ES" sz="1600" spc="-1" strike="noStrike">
                <a:solidFill>
                  <a:srgbClr val="3366ff"/>
                </a:solidFill>
                <a:latin typeface="Arial"/>
              </a:rPr>
              <a:t>Mas se fue desnudando.</a:t>
            </a:r>
            <a:br>
              <a:rPr sz="1600"/>
            </a:br>
            <a:r>
              <a:rPr b="0" i="1" lang="es-ES" sz="1600" spc="-1" strike="noStrike">
                <a:solidFill>
                  <a:srgbClr val="3366ff"/>
                </a:solidFill>
                <a:latin typeface="Arial"/>
              </a:rPr>
              <a:t>Y yo le sonreí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i="1" lang="es-ES" sz="1600" spc="-1" strike="noStrike">
                <a:solidFill>
                  <a:srgbClr val="3366ff"/>
                </a:solidFill>
                <a:latin typeface="Arial"/>
              </a:rPr>
              <a:t>Se quedó con la túnica</a:t>
            </a:r>
            <a:br>
              <a:rPr sz="1600"/>
            </a:br>
            <a:r>
              <a:rPr b="0" i="1" lang="es-ES" sz="1600" spc="-1" strike="noStrike">
                <a:solidFill>
                  <a:srgbClr val="3366ff"/>
                </a:solidFill>
                <a:latin typeface="Arial"/>
              </a:rPr>
              <a:t>de su inocencia antigua.</a:t>
            </a:r>
            <a:br>
              <a:rPr sz="1600"/>
            </a:br>
            <a:r>
              <a:rPr b="0" i="1" lang="es-ES" sz="1600" spc="-1" strike="noStrike">
                <a:solidFill>
                  <a:srgbClr val="3366ff"/>
                </a:solidFill>
                <a:latin typeface="Arial"/>
              </a:rPr>
              <a:t>Creí de nuevo en ella.</a:t>
            </a:r>
            <a:br>
              <a:rPr sz="1600"/>
            </a:br>
            <a:r>
              <a:rPr b="0" i="1" lang="es-ES" sz="1600" spc="-1" strike="noStrike">
                <a:solidFill>
                  <a:srgbClr val="660066"/>
                </a:solidFill>
                <a:latin typeface="Arial"/>
              </a:rPr>
              <a:t>Y se quitó la túnica</a:t>
            </a:r>
            <a:br>
              <a:rPr sz="1600"/>
            </a:br>
            <a:r>
              <a:rPr b="0" i="1" lang="es-ES" sz="1600" spc="-1" strike="noStrike">
                <a:solidFill>
                  <a:srgbClr val="660066"/>
                </a:solidFill>
                <a:latin typeface="Arial"/>
              </a:rPr>
              <a:t>y apareció desnuda toda.</a:t>
            </a:r>
            <a:br>
              <a:rPr sz="1600"/>
            </a:br>
            <a:r>
              <a:rPr b="0" i="1" lang="es-ES" sz="1600" spc="-1" strike="noStrike">
                <a:solidFill>
                  <a:srgbClr val="660066"/>
                </a:solidFill>
                <a:latin typeface="Arial"/>
              </a:rPr>
              <a:t>¡oh pasión de mi vida, poesía</a:t>
            </a:r>
            <a:br>
              <a:rPr sz="1600"/>
            </a:br>
            <a:r>
              <a:rPr b="0" i="1" lang="es-ES" sz="1600" spc="-1" strike="noStrike">
                <a:solidFill>
                  <a:srgbClr val="660066"/>
                </a:solidFill>
                <a:latin typeface="Arial"/>
              </a:rPr>
              <a:t>desnuda, mía para siempre</a:t>
            </a:r>
            <a:r>
              <a:rPr b="0" i="1" lang="es-ES" sz="1600" spc="-1" strike="noStrike">
                <a:solidFill>
                  <a:srgbClr val="990099"/>
                </a:solidFill>
                <a:latin typeface="Arial"/>
              </a:rPr>
              <a:t>!</a:t>
            </a: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4221000"/>
            <a:ext cx="1503360" cy="1872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4"/>
          <p:cNvSpPr txBox="1"/>
          <p:nvPr/>
        </p:nvSpPr>
        <p:spPr>
          <a:xfrm>
            <a:off x="468360" y="260280"/>
            <a:ext cx="82296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00">
                    <a:alpha val="98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onotype Corsiva"/>
              </a:rPr>
              <a:t>Etapas de su poesía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00">
                  <a:alpha val="98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6" name=""/>
          <p:cNvSpPr/>
          <p:nvPr/>
        </p:nvSpPr>
        <p:spPr>
          <a:xfrm>
            <a:off x="4356000" y="155736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03640" y="2276640"/>
            <a:ext cx="216000" cy="1081080"/>
          </a:xfrm>
          <a:custGeom>
            <a:avLst/>
            <a:gdLst>
              <a:gd name="textAreaLeft" fmla="*/ 0 w 216000"/>
              <a:gd name="textAreaRight" fmla="*/ 78120 w 21600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32360" y="364500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3640" y="4653000"/>
            <a:ext cx="71640" cy="719280"/>
          </a:xfrm>
          <a:custGeom>
            <a:avLst/>
            <a:gdLst>
              <a:gd name="textAreaLeft" fmla="*/ 0 w 71640"/>
              <a:gd name="textAreaRight" fmla="*/ 25920 w 7164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1628640"/>
            <a:ext cx="19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Poesía becquer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249228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Poesía modern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1557360"/>
            <a:ext cx="71280" cy="1800360"/>
          </a:xfrm>
          <a:custGeom>
            <a:avLst/>
            <a:gdLst>
              <a:gd name="textAreaLeft" fmla="*/ 0 w 71280"/>
              <a:gd name="textAreaRight" fmla="*/ 25560 w 71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24720" y="2349360"/>
            <a:ext cx="11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80360" y="2133720"/>
            <a:ext cx="1584360" cy="3070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ff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apa sensi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414972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19640" y="378936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Poesía  intelectual o p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80000" y="515772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4724280"/>
            <a:ext cx="11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Poesía sufic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d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66"/>
                </a:solidFill>
                <a:latin typeface="Arial"/>
              </a:rPr>
              <a:t>Vino primero p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66"/>
                </a:solidFill>
                <a:latin typeface="Arial"/>
              </a:rPr>
              <a:t>Vestida de inoc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66"/>
                </a:solidFill>
                <a:latin typeface="Arial"/>
              </a:rPr>
              <a:t>Y la amé como un niño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07960" y="476280"/>
            <a:ext cx="3198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ESÍA BECQUERIA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sta 19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ujo de Bécquer y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bolismo fran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o corto, sobre 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sílabo y estrof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nce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lo senc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as: amor, tiemp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erte, paisaje melancólic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eda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r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ias trist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ardines lejan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to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ladas de primav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00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4038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Entre el velo de la lluv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que pone gris el paisaje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pasan las vacas, volvien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de la dulzura del vall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Las tristes esquilas sueñ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alejadas, y la tar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va cayendo tristemente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sin estrellas ni cantar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La campiña se ha qued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fría y sola con sus árbole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por las perdidas vere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hoy no volverá ya nadi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Voy a cerrar mi venta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porque si pierdo en el val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mi corazón, quizá quie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Arial"/>
              </a:rPr>
              <a:t>morirse con el paisaj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(Arias tris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197000"/>
            <a:ext cx="1533600" cy="115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00720" y="2492280"/>
            <a:ext cx="1592280" cy="119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43640" y="3860640"/>
            <a:ext cx="1757520" cy="116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600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ffff66"/>
                </a:solidFill>
                <a:latin typeface="Arial"/>
              </a:rPr>
              <a:t>Luego se fue vistiendo</a:t>
            </a:r>
            <a:br>
              <a:rPr sz="1400"/>
            </a:br>
            <a:r>
              <a:rPr b="0" i="1" lang="en-US" sz="1400" spc="-1" strike="noStrike">
                <a:solidFill>
                  <a:srgbClr val="ffff66"/>
                </a:solidFill>
                <a:latin typeface="Arial"/>
              </a:rPr>
              <a:t>de no sé qué ropajes;</a:t>
            </a:r>
            <a:br>
              <a:rPr sz="1400"/>
            </a:br>
            <a:r>
              <a:rPr b="0" i="1" lang="en-US" sz="1400" spc="-1" strike="noStrike">
                <a:solidFill>
                  <a:srgbClr val="ffff66"/>
                </a:solidFill>
                <a:latin typeface="Arial"/>
              </a:rPr>
              <a:t>y la fui odiando sin saberlo.</a:t>
            </a:r>
            <a:br>
              <a:rPr sz="1400"/>
            </a:br>
            <a:r>
              <a:rPr b="0" i="1" lang="en-US" sz="1400" spc="-1" strike="noStrike">
                <a:solidFill>
                  <a:srgbClr val="ffff66"/>
                </a:solidFill>
                <a:latin typeface="Arial"/>
              </a:rPr>
              <a:t>Llegó a ser una reina,</a:t>
            </a:r>
            <a:br>
              <a:rPr sz="1400"/>
            </a:br>
            <a:r>
              <a:rPr b="0" i="1" lang="en-US" sz="1400" spc="-1" strike="noStrike">
                <a:solidFill>
                  <a:srgbClr val="ffff66"/>
                </a:solidFill>
                <a:latin typeface="Arial"/>
              </a:rPr>
              <a:t>fastuosa de tesoros…</a:t>
            </a:r>
            <a:br>
              <a:rPr sz="1400"/>
            </a:br>
            <a:r>
              <a:rPr b="0" i="1" lang="en-US" sz="1400" spc="-1" strike="noStrike">
                <a:solidFill>
                  <a:srgbClr val="ffff66"/>
                </a:solidFill>
                <a:latin typeface="Arial"/>
              </a:rPr>
              <a:t>¡Qué iracundia de yel y sin sentido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66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27352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84020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27640" y="0"/>
            <a:ext cx="2916360" cy="63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ESÍA MODERNIS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sta 19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ujo de los poe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nistas  y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bolismo franc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o alejandrino c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ma consonant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neto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lo más cuidad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jetivos colorist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pítetos, pala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drújulas… (s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bar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 un modernis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imis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as: amor, tiemp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erte, impre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uales, paisaj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lancólico, soleda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3213000"/>
            <a:ext cx="3168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br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lmas de viole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infeas, Elejí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soledad sono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oemas máj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 dolientes, Sonet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pirituales, Platero y y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í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616200" cy="5184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067280" y="1268280"/>
            <a:ext cx="572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iene una esencia triste de jazmines con l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y el llanto de una música romántica y lejan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e las estrellas baja, dolientemente,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risa con los colores nuevos de la mañan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spectral, amarillo, doloroso y fraga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 la niebla de la avenida voy perdid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stio de la armonía, roto de lo dista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erto entre rosales pálidos del olvid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Y aún la luna platea las frondas de tibi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uando ya el día rosa viene por los jardin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negando en sus lumbres esta vaga trist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n música, con llanto, con brisa y con  jazm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soledad sonora(19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21:51:33Z</dcterms:created>
  <dc:creator>Jose Antonio</dc:creator>
  <dc:description/>
  <dc:language>en-US</dc:language>
  <cp:lastModifiedBy>Dpto</cp:lastModifiedBy>
  <dcterms:modified xsi:type="dcterms:W3CDTF">2003-01-13T03:05:54Z</dcterms:modified>
  <cp:revision>39</cp:revision>
  <dc:subject/>
  <dc:title>Diapositiva 1</dc:title>
</cp:coreProperties>
</file>